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D049-7FCB-4D3D-A479-3DFF43728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A608-17BE-45E6-8CE6-2285A1260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336F-3926-41B5-9104-C07660C8D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0E95-BFE7-47AD-AC93-6AEED2872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online.science.psu.edu/biol011_sandbox_7239/node/73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E9B1-5484-4B4E-A2D6-F8FA88588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B565-24F2-4524-8A95-E2851CDC3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26C1-A488-4EE1-A42F-8C36ABA3E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bothbrainsandbeauty.com/academic-discussions/chemistry-academic-discussions/functional-groups-429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xyl - in alcohols, carbohydrates, steroids, some amino acid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ate - nucleic acids, ATP, some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yl - in ketones &amp; aldehyd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fhydryl - some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xyl - in amino acids, fatty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 - in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dlc.dcccd.edu/biology1-3/functional-groups-and-bio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eems like a great website for reviewing the functional groups</a:t>
            </a:r>
            <a:r>
              <a:rPr b="0" lang="is-IS" sz="1200" spc="-1" strike="noStrike">
                <a:solidFill>
                  <a:srgbClr val="000000"/>
                </a:solidFill>
                <a:latin typeface="Arial"/>
              </a:rPr>
              <a:t>…interactive review tool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1E99-0259-40F3-B358-352DB92C2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F260-01A4-4D74-BCCA-C852F99C1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EBF7-DF64-4B34-B272-5A1BA4359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6960-0FC8-46D0-A619-5E33E098E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www.uwgb.edu/dutchs/EarthSC202Notes/mineral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5F46-1FDA-4195-A278-086E42674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</a:t>
            </a: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http://www.britannica.com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031C-AFF3-45DD-884A-FBB1F8A28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atalog.flatworldknowledge.com/bookhub/4309?e=averill_1.0-ch08_s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C1A2-9A4B-455B-9727-53BA607F4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775C-DE5E-4085-BC34-AC209E149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800mainstreet.com/5/0005-009-polar-molecul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1084-520D-4A50-AC29-F98B92A64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from: http://www.elmhurst.edu/~chm/vchembook/171solublesalt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3D32-676E-445A-9264-BD4149CF5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chem.ufl.edu/~itl/4411/lectures/lec_g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2B27-2696-4B03-A36C-82048AB1C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435B-7FA9-4C1D-8C61-7B2A3B31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C651-F700-4FBF-BFBE-FA9FC7582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440C-E9DE-4CC6-B931-607022BE3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35D2-C978-4605-A711-C5F83F39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ECDA-E056-4F80-8FDB-FE4120A8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D7F0-DF8C-4ABD-8381-EB094CC2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77DA-F842-45A6-A728-1494A2DC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4A73-5222-448C-94D8-0C769B9D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175C-3A6A-477D-8327-08A09C7A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3CE1-191B-4BA2-97DE-D3D23E68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6341-2F80-4CCA-A5D5-9FCD3BEC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DAF7-2C54-49E9-8AD9-9A15DB184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BI4U - Biochemi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to Macro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.1 - 1.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-bo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38826137"/>
          <p:cNvPicPr/>
          <p:nvPr/>
        </p:nvPicPr>
        <p:blipFill>
          <a:blip r:embed="rId1"/>
          <a:stretch/>
        </p:blipFill>
        <p:spPr>
          <a:xfrm>
            <a:off x="1170000" y="1981080"/>
            <a:ext cx="6804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they relate to its chemical stru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esion (high surface ten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hesion (capillary 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 form less dense than liquid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Reactions: Red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Content Placeholder 3" descr="Fig-4-1-Redox-Reaction.gif"/>
          <p:cNvPicPr/>
          <p:nvPr/>
        </p:nvPicPr>
        <p:blipFill>
          <a:blip r:embed="rId1"/>
          <a:srcRect l="0" t="-4885" r="0" b="-4885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clusters of atoms attached to the carbon backb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groups react in characteristic ways, giving chemical properties to macromolecules, and are involved in most reactions in living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functional-groups"/>
          <p:cNvPicPr/>
          <p:nvPr/>
        </p:nvPicPr>
        <p:blipFill>
          <a:blip r:embed="rId1"/>
          <a:stretch/>
        </p:blipFill>
        <p:spPr>
          <a:xfrm>
            <a:off x="2496960" y="1981080"/>
            <a:ext cx="4148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Groups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Content Placeholder 3" descr="phosphate_group.jpg"/>
          <p:cNvPicPr/>
          <p:nvPr/>
        </p:nvPicPr>
        <p:blipFill>
          <a:blip r:embed="rId1"/>
          <a:srcRect l="-15344" t="0" r="-15344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romolec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cromolecu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large molecules that are often composed of repeating sub-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of the biologically important macromolecul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hydr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lip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i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nucleic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c Chemi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emistry of organic compounds, which form the basis of all living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c compounds contain carbon and hydrogen, and usually other elements such as nitrogen, sulfur and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onic &amp; Covalent Bo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ion-cov"/>
          <p:cNvPicPr/>
          <p:nvPr/>
        </p:nvPicPr>
        <p:blipFill>
          <a:blip r:embed="rId1"/>
          <a:stretch/>
        </p:blipFill>
        <p:spPr>
          <a:xfrm>
            <a:off x="1851120" y="1981080"/>
            <a:ext cx="5440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eg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7341-004-F7ABCC46"/>
          <p:cNvPicPr/>
          <p:nvPr/>
        </p:nvPicPr>
        <p:blipFill>
          <a:blip r:embed="rId1"/>
          <a:stretch/>
        </p:blipFill>
        <p:spPr>
          <a:xfrm>
            <a:off x="685800" y="2133720"/>
            <a:ext cx="800100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ar Covalent Bo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averillfwk-fig08_011"/>
          <p:cNvPicPr/>
          <p:nvPr/>
        </p:nvPicPr>
        <p:blipFill>
          <a:blip r:embed="rId1"/>
          <a:stretch/>
        </p:blipFill>
        <p:spPr>
          <a:xfrm>
            <a:off x="2262240" y="1981080"/>
            <a:ext cx="4619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arity of Molec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arity of bonds in molec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y of molecular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arity of molecules or functional groups determines characteristics such as solu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H2O_geom_partial_charges_CS"/>
          <p:cNvPicPr/>
          <p:nvPr/>
        </p:nvPicPr>
        <p:blipFill>
          <a:blip r:embed="rId1"/>
          <a:stretch/>
        </p:blipFill>
        <p:spPr>
          <a:xfrm>
            <a:off x="7772400" y="2286000"/>
            <a:ext cx="933480" cy="676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BF3_geometry_partial_charge"/>
          <p:cNvPicPr/>
          <p:nvPr/>
        </p:nvPicPr>
        <p:blipFill>
          <a:blip r:embed="rId2"/>
          <a:stretch/>
        </p:blipFill>
        <p:spPr>
          <a:xfrm>
            <a:off x="6705720" y="3124080"/>
            <a:ext cx="12286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0005-009-samplesshap"/>
          <p:cNvPicPr/>
          <p:nvPr/>
        </p:nvPicPr>
        <p:blipFill>
          <a:blip r:embed="rId1"/>
          <a:stretch/>
        </p:blipFill>
        <p:spPr>
          <a:xfrm>
            <a:off x="685800" y="744480"/>
            <a:ext cx="7772400" cy="52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171saltdissolve"/>
          <p:cNvPicPr/>
          <p:nvPr/>
        </p:nvPicPr>
        <p:blipFill>
          <a:blip r:embed="rId1"/>
          <a:stretch/>
        </p:blipFill>
        <p:spPr>
          <a:xfrm>
            <a:off x="685800" y="2189160"/>
            <a:ext cx="3886200" cy="4079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171saltdissolve2"/>
          <p:cNvPicPr/>
          <p:nvPr/>
        </p:nvPicPr>
        <p:blipFill>
          <a:blip r:embed="rId2"/>
          <a:stretch/>
        </p:blipFill>
        <p:spPr>
          <a:xfrm>
            <a:off x="4648320" y="2228760"/>
            <a:ext cx="38098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molecular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g12_02b"/>
          <p:cNvPicPr/>
          <p:nvPr/>
        </p:nvPicPr>
        <p:blipFill>
          <a:blip r:embed="rId1"/>
          <a:stretch/>
        </p:blipFill>
        <p:spPr>
          <a:xfrm>
            <a:off x="325440" y="1600200"/>
            <a:ext cx="84931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10:27:25Z</dcterms:created>
  <dc:creator>rubina khan</dc:creator>
  <dc:description/>
  <dc:language>en-US</dc:language>
  <cp:lastModifiedBy>rubina khan</cp:lastModifiedBy>
  <dcterms:modified xsi:type="dcterms:W3CDTF">2017-02-09T11:22:36Z</dcterms:modified>
  <cp:revision>167</cp:revision>
  <dc:subject/>
  <dc:title>Organic Chemistry</dc:title>
</cp:coreProperties>
</file>